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1AC5-B9C1-4609-BA9B-F93A9EB8F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68C4-4E6D-407E-8457-25A12F3CF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11F1-E70E-45D1-8091-9162F31D7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2C2B-2C74-4701-AFA2-3986B03CF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66B9-2DD9-4963-B521-ED5122A2F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5E1D-9183-4CF0-BE3E-DC85AAEC6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F156-24FE-4329-8B23-4E120EFCF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701C-65CA-4CF0-9061-8AF12EDCB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65B0-7FD3-4E29-956E-61263D7DA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E8AE-E4DC-4B87-B55F-38479DFF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E586-CF92-4207-895B-29901A668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D8E3-699B-4A29-AC56-AF6D5824D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8C4C2-12D8-4F7D-A3B6-34D3DE0F3E53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Τίτλος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ο19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ιώνα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ίχα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γίνε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στη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υρώπ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ολλέ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λλαγές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η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ιστήμης,τη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οινωνία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α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δηγού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βαθμιαία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στη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νατροπ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ω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αθιερωμένω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ξιών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Τίτλος 1" descr=""/>
          <p:cNvPicPr/>
          <p:nvPr/>
        </p:nvPicPr>
        <p:blipFill>
          <a:blip r:embed="rId1"/>
          <a:stretch/>
        </p:blipFill>
        <p:spPr>
          <a:xfrm>
            <a:off x="469800" y="8568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νευματικ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αστατικ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ινήματα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Διαφωτισμός,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Γαλλ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Ρομαντισμός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Βιομηχαν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Ρωσ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Η παραδοσιακ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οίησ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νταποκρινότα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την παλι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άξ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ραγμάτων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Γιατ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αραπάν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λλαγέ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πενεργούν σ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ρόπο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ποί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άνθρωπο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ισθανότα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χέσ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κόσμ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πηρεάζου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δηλαδή την ευαισθησία το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Για να εκφράσει τη «διάλυση» ευαισθησίας του ανθρώπου, η ποίηση έπρεπε να βρει καινούριους εκφραστικούς τρόπου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Τίτλος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ο όνομα: άγνωστο, παρουσιαζόταν πρώτη φορά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τίτλος είναι διφορούμενος: μπορεί να είναι ένας όρος της στιχουργικής,αλλὰ μπορεί και να σημαίνει μια βαθύτερη αλλαγή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τίτλος είχε ασφαλώς το δεύτερο νόημα. Με τη λιγοσέλιδη ποιητικὴ συλλογή ερχόταν στη νέα ελληνική ποίηση μία αναπάντεχη αλλαγή, μια πραγματική «στροφή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Τίτλος 1" descr=""/>
          <p:cNvPicPr/>
          <p:nvPr/>
        </p:nvPicPr>
        <p:blipFill>
          <a:blip r:embed="rId1"/>
          <a:stretch/>
        </p:blipFill>
        <p:spPr>
          <a:xfrm>
            <a:off x="414360" y="96840"/>
            <a:ext cx="840096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8T09:13:27Z</dcterms:created>
  <dc:creator>ΓΙΩΡΓΟΣ   ΔΕΣΠΟΙΝΑ</dc:creator>
  <dc:description/>
  <dc:language>en-US</dc:language>
  <cp:lastModifiedBy>giorgos</cp:lastModifiedBy>
  <dcterms:modified xsi:type="dcterms:W3CDTF">2012-03-23T09:53:23Z</dcterms:modified>
  <cp:revision>11</cp:revision>
  <dc:subject/>
  <dc:title>ΗΓενιάτου’30 Aπό το19ο αιώνα, είχαν γίνει στην Ευρώπη πολλέςαλλαγές,που έχουν σχέση με την εξέλιξη της επιστήμης και τη δομή της κοινωνικής οργάνωσης και οδηγούν βαθμιαία στην ανατροπή των καθιερωμένων αξιών.</dc:title>
</cp:coreProperties>
</file>